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B5E8-6750-4AFF-81B0-BED8138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2243-95F6-4755-9F45-27E85FF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969E-475A-41C3-A332-60D48E15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CF25-6CE0-414C-80BB-03E1E34B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644C-685F-4323-8237-66FE6C40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8E7A-1D99-48BF-9966-49C2A9D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5D9D-D20E-45FE-9108-89B637B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EAF4-C242-4CDC-B30F-01ACB15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7DD7-2028-43C3-9192-96615257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785D-10FD-4E96-8522-6FD158E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EA3-17D6-40E8-8BA0-E04DCB6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4881-408B-42B4-B7EC-6BC1E898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0302-DC46-4D5C-9CA3-F6E616E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CBD-8AC0-441C-89D8-967CEAE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588A-21C7-466C-BE8D-65428BB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F7BD-3641-4D26-8621-388CD5B8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F1E1-E9A2-45E2-BA6D-604D4CD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B3F5-A411-40C9-91FE-32C47E1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84D8-1F4E-4DEA-9B4D-5A047F89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E235-B053-4B2A-B744-F75A47C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131C-51E8-41AC-9BA4-E045227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639E-4A50-4939-B203-CC358ED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AB8C-F514-4BEF-8C68-A60787C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8F29-47D7-422E-A2DC-84CAD34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F83-0B43-4FBD-AF54-71607245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7F5D-3BAF-4EED-80F7-4290653D0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8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Me llamo _______ Clase 6NH(602)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La fecha es el 19 de septiembre del 2012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Propósito # 2: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¿ Como repasamos lo que aprendimos el año pasado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What is a SUBJECT PRONOUN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subject pronoun is a word that REPLACES a nou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.e.             Robert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He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495680"/>
            <a:ext cx="1143000" cy="457200"/>
          </a:xfrm>
          <a:prstGeom prst="ellipse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360" y="4343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125600">
            <a:off x="1677240" y="50432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4876560"/>
            <a:ext cx="609840" cy="60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019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1371240" y="3733920"/>
            <a:ext cx="609480" cy="685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765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4120" y="5105520"/>
            <a:ext cx="380880" cy="533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00240" y="6095880"/>
            <a:ext cx="609480" cy="304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343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1. México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10. Puerto Rico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048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8. Cub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181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2. Guatemal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638680"/>
            <a:ext cx="152424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7. Panamá 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343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3. Honduras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6. 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5. Nicaragu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23623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9. Republica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5715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4. El Salvador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México Distrito Fede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54100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Ciudad de Guatema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572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Teguciga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943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San Salv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Manag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6477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San Jos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5943600"/>
            <a:ext cx="2286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Ciudad de Panam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27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Hab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21337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Santo Domin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105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</a:rPr>
              <a:t>* San Ju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Repaso de la Tarea # 1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Garamond"/>
              </a:rPr>
              <a:t>America del Norte, Central y el Caribe Hispano-hab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4419720"/>
            <a:ext cx="2133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5480" y="175248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20280" y="1523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46160" y="396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47242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3800" y="52578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640" y="61722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9320" y="4267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8280" y="3429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1160" y="2422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828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Cara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600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Bogot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743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Qui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733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5720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Sant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Buenos Ai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5627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Montevid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50292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Asunció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* La P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Garamond"/>
              </a:rPr>
              <a:t>Africa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3733200" y="5715000"/>
            <a:ext cx="234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nea Ecua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1320" y="6094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Arial"/>
              </a:rPr>
              <a:t>Ceu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6200" y="6094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Arial"/>
              </a:rPr>
              <a:t>Mel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Garamond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0040" y="4876920"/>
            <a:ext cx="108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99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257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Verdana"/>
              </a:rPr>
              <a:t>* Madr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* Malabo</a:t>
            </a:r>
            <a:r>
              <a:rPr b="1" lang="es-ES_tradnl" sz="1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Los pronombr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31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os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Garamond"/>
              </a:rPr>
              <a:t>pronombres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son las palabras que remplazan los nombres o sustantiv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n español, los pronombres son</a:t>
            </a: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329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*T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24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*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51055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 (U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266688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63920" y="32767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8000"/>
                </a:solidFill>
                <a:latin typeface="Verdana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41911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8150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500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es (U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7273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94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775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, singu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2727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703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,pl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343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uys,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4876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irl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8004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/familiar plu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You’s gu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486400"/>
            <a:ext cx="3124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19076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19076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97200" y="431928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Verdana"/>
              </a:rPr>
              <a:t>Es lo m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320040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19720" y="320004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838080" cy="633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838080" cy="539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590920" y="5029200"/>
            <a:ext cx="914400" cy="779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172200" y="2514600"/>
            <a:ext cx="655560" cy="685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5410080" y="4191120"/>
            <a:ext cx="1143000" cy="591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5410080" y="4800600"/>
            <a:ext cx="1067040" cy="600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7620120" y="5457960"/>
            <a:ext cx="1066680" cy="63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6705720" y="33256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6400800" y="3346560"/>
            <a:ext cx="838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El pronombre </a:t>
            </a:r>
            <a:r>
              <a:rPr b="0" lang="es-ES_tradnl" sz="4400" spc="-1" strike="noStrike">
                <a:solidFill>
                  <a:srgbClr val="008000"/>
                </a:solidFill>
                <a:latin typeface="Garamond"/>
              </a:rPr>
              <a:t>Vosotros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4400" spc="-1" strike="noStrike">
                <a:solidFill>
                  <a:srgbClr val="ff3300"/>
                </a:solidFill>
                <a:latin typeface="Garamond"/>
              </a:rPr>
              <a:t>no lo vamos a usar (por ahora)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porque es lo mismo que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Garamond"/>
              </a:rPr>
              <a:t>Ustedes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*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Sin el acento: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Tu = Your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l = Th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Practica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¿Qué pronombre se usa..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os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 herman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 y tus amig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s pad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a, Rosa &amp; M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14800" y="10746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1143000" cy="736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87336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1219320" cy="728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648320" y="434340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5867280" y="5334120"/>
            <a:ext cx="1447920" cy="81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4120" y="106668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19810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2743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3625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Ustedes (Ud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434340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54388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Ustedes (Ud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Tarea # 2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4:11:01Z</dcterms:created>
  <dc:creator>Helen Zumaeta</dc:creator>
  <dc:description/>
  <dc:language>en-US</dc:language>
  <cp:lastModifiedBy>Helen Zumaeta</cp:lastModifiedBy>
  <dcterms:modified xsi:type="dcterms:W3CDTF">2012-09-14T21:42:54Z</dcterms:modified>
  <cp:revision>21</cp:revision>
  <dc:subject/>
  <dc:title>Me llamo _______   Clase  6 IM La fecha es el 19 de abril del 2010</dc:title>
</cp:coreProperties>
</file>